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3054-2EDC-426A-B3D7-B12B8FD6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834-C959-4037-B74D-22D70198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278-1ACF-452C-98FA-F0AD0D16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2AB-89D6-4EF0-8BB4-F4BE335D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362D-8194-4F64-881D-AF7EB88A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BBD-338F-433B-9E92-939C6D8B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2225-DE0F-4CF2-A6AE-0D3378E0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2B2-3022-4918-9FB6-9066DA27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68F0-1029-4087-9157-8C5A237B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12B0-DC97-488A-9025-3D2A1E1D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F25-609E-4E1E-9926-B48318D1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23C-5F62-4873-97EB-7949A484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E6A2-C4DA-43B9-8C86-A6B7A3F51C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Design\portfolio\suicide_present\su_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21325800">
            <a:off x="852480" y="909360"/>
            <a:ext cx="505152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рьезность намерения и реальная возможность совершить задума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колько серьезны намерения совершить самоубийств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аходится челове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ли реальная возможность совершить самоубийств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 rot="21325800">
            <a:off x="274320" y="-41400"/>
            <a:ext cx="634356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рьез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смерти снижается с понижением уровня серьёзности человека (имеется ввиду в трезвом состояни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Насколько СЕРЬЁЗНА угроза самоубийст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колько выразительны его слова и эмоц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колько решительны его действ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ремени он себе да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ся ли человек в состоянии алкогольного или наркотического опьяне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Насколько ВСТРЕВОЖЕН потенциальный самоубийца?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угрожает совершить суицид только на словах, или уже предпринимает какие-то действ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ен ли он контролировать свои поступк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ит ли он в пустоту и молчи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ли он смотрит на орудие самоубийст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ывается ли он от помощ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 rot="21325800">
            <a:off x="647640" y="914040"/>
            <a:ext cx="544032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И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сите человека использовать Количественные и Качественные сравнения, для того чтобы вызвать неуверенность и вол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цифры, цвета, вес, температуру, цвет, звук и т.д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 rot="21325800">
            <a:off x="796680" y="913680"/>
            <a:ext cx="544032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й самоубий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ечит себ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мает вещ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рожает вам или другим людя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есть орудие для самоубий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самоубийства?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 rot="21325800">
            <a:off x="796680" y="913680"/>
            <a:ext cx="544032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главных достижения при переговорах с потенциальным самоубийцей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асение жиз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пасение жизни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пасение жизни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 rot="21325800">
            <a:off x="631080" y="565920"/>
            <a:ext cx="573732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 коем случа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авьте диагно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авайте сове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ытайтесь вылечить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ешайте его пробл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дводите ит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нсультируют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т проблемы или найдут выход из критической ситу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в безопасном месте и в безопасное время, держа ситуацию под контро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D:\Design\portfolio\suicide_present\borb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:\Design\portfolio\suicide_present\borba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 rot="21325800">
            <a:off x="631080" y="565920"/>
            <a:ext cx="573732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ВО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БАНИЯ самоубийцы – это ничто иное, как БОРЬБА ЗА ЖИЗНЬ. Потенциальные самоубийцы уже не решают проблемы, они решают, «совершить суицид» или «не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нутренняя борьба за жизн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выбирает между «Разрушающим «Я»  и  «Создающим «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Я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омневается, совершать самоубийство или не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 rot="21325800">
            <a:off x="631080" y="565920"/>
            <a:ext cx="573732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ат и рассвет – это критическое время су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не выдержу ещё один день» или наоборот «Я не выдержу ещё одну ноч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и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«разговоры о времени», для того чтобы отложить решение о самоубий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играет вам на руку. Чем больше времени, тем выше шансы спаст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 rot="21325800">
            <a:off x="832680" y="685440"/>
            <a:ext cx="573732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ы о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йте, какое время суток любит потенциальный самоубий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ытайтесь оттянуть осуществления планов самоубийцы до критического времени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щряйте мысли 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щряйте разговоры 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еобходимо, умоляйте д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ОЛЬШЕ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D:\Design\portfolio\suicide_present\su_2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 rot="21325800">
            <a:off x="852120" y="1150560"/>
            <a:ext cx="573732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янит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дите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сите рассказать план в деталях или просто повтори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сите объяснить что-то непонят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физические потре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окружающую обстановку (трудности/опасно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 rot="21325800">
            <a:off x="277200" y="1960200"/>
            <a:ext cx="6229080" cy="14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АЖНЫ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урока переговоров с потенциальным самоубий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 rot="21325800">
            <a:off x="417600" y="532800"/>
            <a:ext cx="60991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ур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ерегайтес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жиданных необъяснимых улучше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троения во время депресси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могут объясняться решением совершить суиц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обстоятельства не изменились, было принято решение о самоубий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ло принято решение о самоубийстве, его можно изменить, задав вопрос о верности этого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 rot="21325800">
            <a:off x="531720" y="906120"/>
            <a:ext cx="5926320" cy="29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урок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подстрекайте, не побуждайте, не подначивайте человека к самоубийств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МОЖЕТ ЕГО СОВЕРШИ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 rot="21325800">
            <a:off x="531360" y="445680"/>
            <a:ext cx="601848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ур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е самоубийцы могут ст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ИЙ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ийцы могут ст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УБИЙ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м станет известно, что человек хочет убить кого-то еще, кроме него самого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дитесь, что эта информация попала в мили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 rot="21325800">
            <a:off x="415800" y="990000"/>
            <a:ext cx="6097680" cy="26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следует позаботиться, встретившись с потенциальным самоубийц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ОТ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случай если ситуация станет опасн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 rot="21325800">
            <a:off x="1133280" y="914040"/>
            <a:ext cx="468468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Н ОТ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йти (способ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уйти (возможн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а уйти (безопасное мест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 чтобы уй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 rot="21325800">
            <a:off x="656640" y="609480"/>
            <a:ext cx="56005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окружающей обстановки. Обратите внимание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баррикады/залож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окость к людям или домашним живо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чу собств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способы самоубийства/убий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ы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 rot="21325800">
            <a:off x="372600" y="382680"/>
            <a:ext cx="623592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УЖ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может иметь еще одно орудие самоубийства про запас или самодельное взрывное устройство. (Зажигательная смесь, шрапнель или и то, и друг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 можем утверждать, что оружие будет использовано только для суицида. Потенциальный самоубийца может стать и убийц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е самоубийцы часто носят с собой и используют острые предметы как угрозу причинения вреда себе или друг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е самоубийцы часто носят с собой и используют химические препараты как угрозу причинения вреда себе или друг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 готовы к сюрприз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 rot="21325800">
            <a:off x="391680" y="541440"/>
            <a:ext cx="623592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гроза огнестрельным оруж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 коем случае 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ватайте оружие 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ватайте человека, чтобы отобрать оруж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авайте оружие гражданским лиц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слоняйте оружие к другим предме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реляйте из оружия, чтобы «избавиться от пул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ерекатывайте оружие по земле/п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умайте, что у потенциального самоубийцы нет других способов совершить суицид или убий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D:\Design\portfolio\suicide_present\su_3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856880" y="2071440"/>
            <a:ext cx="53578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Ведущий перегов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Потенциальный самоубий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Окружающая обста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Ход перегов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 rot="21325800">
            <a:off x="320040" y="398520"/>
            <a:ext cx="623556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Если возможно, немедленно уходите и вызовите мили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Если возможно, немедленно эвакуируйте других лю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не можете уйти, попросит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нциального самоубийц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спользовать оруж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правлять оружие на себ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правлять оружие на вас и других лю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рать палец с кур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 положить оружие на землю/п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йти от оруж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елать «пробных» или «предупреждающих» выстре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айте в милицию обо всех случаях угрозы огнестрельным оружием, даже если все решилось мирным путё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й самоубийца может опять использовать оружие, угрожая себе и други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1325800">
            <a:off x="464760" y="1371240"/>
            <a:ext cx="604692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важных «ключа» к успешным переговор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едотвращение самоубийств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трак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яснение детале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ла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мощ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ейств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 rot="21325800">
            <a:off x="441000" y="590040"/>
            <a:ext cx="60469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й или письменный контр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глашение, обещание, договорен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вершать самоубий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вершать самоубийство сей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вершать никаких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план по выяснению деталей и помо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ворить об их неопределё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ые другие условия спасающие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 rot="21325800">
            <a:off x="326160" y="132480"/>
            <a:ext cx="634068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по спасени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в устной или письмен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меняться в зависимости от ситу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оценивать рис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содержать ваши действия после спас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быть прост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аши действ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Объясните план в самом нача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Изучите всё в детал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лан должен состоять из подпла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редставьте хронологию действ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Расскажите, кто участвует в пла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Безопасность, прежде всего – позвоните в милицию (и психологам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м переговор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Воспользуйтесь профессиональной помощ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 rot="21325800">
            <a:off x="293400" y="990360"/>
            <a:ext cx="634032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н для профессиональн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озможно, пусть профессионалы поговорят с самоубийц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ьте медицинскую и психологическую 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 помощь других специалистов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урегулирование финансов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D:\Design\portfolio\suicide_present\peregovori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 rot="21325800">
            <a:off x="543960" y="1750320"/>
            <a:ext cx="5722920" cy="31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РЕМЯ ИСПОЛЬЗОВАТЬ В РАЗГОВОРЕ ЛЮДЯМ, ВЕДУЩИМ ПЕРЕГОВО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, ведущие переговоры, должны использова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ТОЯЩЕ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D:\Design\portfolio\suicide_present\peregovori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 rot="21325800">
            <a:off x="283680" y="777600"/>
            <a:ext cx="595944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Ы В НАСТОЯЩЕМ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й самоубийца может говорить 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лом и о будущем, но старайтесь осторожно возвращать его к настоящему, к контракту, к плану спасения и помо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лое не изменить, будущее неизвест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СТОЯЩЕ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вестно и его можно измен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D:\Design\portfolio\suicide_present\peregovori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 rot="21325800">
            <a:off x="290520" y="1823400"/>
            <a:ext cx="59594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авите расспросами - э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причиняет б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ть диагноз, лечить, расспрашивать необходимо 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зопасн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е и 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зопас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D:\Design\portfolio\suicide_present\peregovori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 rot="21325800">
            <a:off x="708840" y="464760"/>
            <a:ext cx="5373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 вопросов, которые нужно узнать о настоящем момен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росить о мысл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чем ты сейчас думаешь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просить о душевном состоя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ты сейчас чувствуешь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 физическом состоя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 тебя что-нибудь болит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просить о его действ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му ты хочешь это сделать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знать о душевном состоя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пиши мне твое настроение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D:\Design\portfolio\suicide_present\peregovori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 rot="21325800">
            <a:off x="488520" y="344160"/>
            <a:ext cx="594684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потенциального самоубий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л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а, жесты,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а и внешни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ы или боле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ы могут означ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рошлые попытки суиц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ричинение себе увеч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Что самоубийца - жертва или виновник насил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Употребление наркотиков или алког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Состояние, приводящее к падениям и ран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21329400">
            <a:off x="272160" y="808200"/>
            <a:ext cx="63723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х переговоры необходимо обучать тому, как вести себя с потенциальным самоубийцей в тех или иных ситу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щ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ом к лиц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лефону или с помощью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бщ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редством почты или электронной поч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Интерн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D:\Design\portfolio\suicide_present\peregovori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 rot="21325800">
            <a:off x="372240" y="1666800"/>
            <a:ext cx="60706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тите принятие алкоголя или медицинских препаратов во время перегов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Design\portfolio\suicide_present\priblij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 rot="21329400">
            <a:off x="525240" y="1750680"/>
            <a:ext cx="607032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ость выс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страховку. Предложите страховку потенциальному самоубий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 rot="21329400">
            <a:off x="415080" y="490320"/>
            <a:ext cx="6164280" cy="44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ости окружающего простр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ьное движение, пешеходы под местом, выбранным для самоубий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ый транспор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ачивание из тол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кий св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ие ог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но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, ветер и мол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ие пров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опров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или высокая температу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ный мусор под ног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 rot="21329400">
            <a:off x="634320" y="490680"/>
            <a:ext cx="5730840" cy="44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ости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Другие люд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Оборудование под ногам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Ветер с песко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Шум от воздушного транспорт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Холодный ветер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Сломанные или расшатанные перил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рупкие камн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Неровные поверхнос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Резкие порывы ветр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Дождь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тицы, насекомы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гнорируйте предупреждающие знаки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 rot="21329400">
            <a:off x="634680" y="483480"/>
            <a:ext cx="587844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ледует приближаться к потенциальному самоубийц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е приближение с соблюдением следующих зо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ы приближ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ты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го ты хочешь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ты делаешь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 кем ты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ы сказал кому-нибудь, что я здесь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 rot="21329400">
            <a:off x="1114560" y="1042200"/>
            <a:ext cx="4835520" cy="30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ой та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подхо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хо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чего не говор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чего не дела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тебя ударю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 rot="21329400">
            <a:off x="690480" y="1223280"/>
            <a:ext cx="5726160" cy="29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а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ходите в эту зон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зоне, обычно, происходит немедленное нападение, без предупрежде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 rot="21325800">
            <a:off x="477000" y="1295280"/>
            <a:ext cx="615636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лизко можно подой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йте вне расстояния удара н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потенциальный самоубийца может ста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ИЙЦ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 rot="21325800">
            <a:off x="474480" y="1219320"/>
            <a:ext cx="6229080" cy="28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ЛИ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ьте план от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ите человеку о своём прибли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лижайтесь медл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лижайтесь остор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йте зоны прибл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те за опасностями внешне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21322800">
            <a:off x="326520" y="1239480"/>
            <a:ext cx="609300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 первую очередь сказать человеку, который хочет совершить самоубийство и разговаривает с вами по телефон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вдруг нас разъединят, не думай, что это я положил трубку. Как мне связаться с тобой, если связь оборвется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 rot="21325800">
            <a:off x="455040" y="566280"/>
            <a:ext cx="622908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для нападения со стороны потенциального самоубийц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ное или наркотическое опья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 или па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сть или м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нену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ое рас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вмешательства в личную жи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вни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 rot="21325800">
            <a:off x="469440" y="701280"/>
            <a:ext cx="6229440" cy="37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меньшить агрессивное пове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йдите назад от зон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жите свои р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сите прощения и скажите, что вы не причините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сите «не причинять вам вре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ите пойти на уступ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ас должен быть план отхода, используйте его сразу, как это будет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 rot="21325800">
            <a:off x="480960" y="423720"/>
            <a:ext cx="60501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ПОТЕНЦИАЛЬНОГО САМОУБИЙЦ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АЯ ПРОСЬБА «Можно мне …, пожалуйс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ВЕННАЯ ПРОСЬБА «Было бы хорошо, если бы я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КА «Я обещаю не совершать самоубийство, если ты...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РОЗА «Если ты не дашь мне…, я покончу собой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ЬБА «О, пожалуйста, пожалуйста, дайте мне…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говори «нет»… Говори «да», но добавляй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 будет сложн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 rot="21325800">
            <a:off x="531720" y="1060200"/>
            <a:ext cx="589752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рги  с Вашей сторо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дам тебе….., если ты немного отодвинешься от края и останешься та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дам тебе …, если ты положишь нож и отодвинешься от не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дам тебе …, если ты не будешь глотать эти таблет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 rot="21325800">
            <a:off x="487080" y="738000"/>
            <a:ext cx="6153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самоубийство неизбе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пользуйте активную модель переговоро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йте план спасения, используя прямые прик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ко скажи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ой, не делай этого! Послушай меня, пожалуйста, посмотри на меня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 rot="21325800">
            <a:off x="487080" y="738000"/>
            <a:ext cx="6153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еловек  не отклик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ите внимание громкими звуками или жес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щите зрительный конт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мните о контракте и плане спас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ите дать ещё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вмешательство недопустимо, если эт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не единственное оставшееся средство. Вы должны быть сотрудником отряда милиции (или иметь опыт военного обучения), чтобы проводить такие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 rot="21325800">
            <a:off x="835920" y="900000"/>
            <a:ext cx="58086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яция места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закрыть место действия от вмешательства други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необходимо убрать лишних людей с места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 rot="21325800">
            <a:off x="607680" y="984960"/>
            <a:ext cx="604044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ите е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ли поз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руга/супругу – помощь или помех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ственников и друзей – помощь или помех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ников – помощь или помех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 rot="21325800">
            <a:off x="611280" y="1752120"/>
            <a:ext cx="5943600" cy="27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гнорируйте галлюцинаци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 rot="21325800">
            <a:off x="376200" y="1366920"/>
            <a:ext cx="617544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есное спас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ко отрицайте фантазии о чудесном спасении, если потенциальный самоубийца решит совершить суицид ради того, чтобы не упасть в грязь лиц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21387600">
            <a:off x="129960" y="683640"/>
            <a:ext cx="64530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, прежде всего, нужно сделать, общаясь с потенциальным самоубийцей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ите о нем кому-нибудь или позовите помощ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сообщайте о ходе переговоров и пользуйтесь советами (если вы ведете переговоры по телефону и есть возможность говорить с милицией на другой лини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дитесь, что подробности переговоров доступны профессионалам (если есть возможность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еговорах с потенциальными самоубийцами не должно быть «одиночек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 rot="21325800">
            <a:off x="561240" y="1587240"/>
            <a:ext cx="5916600" cy="27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едение «на пока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казывание способности прыгну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уверены и не одобряйте опасное «поведение на показ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те, что вы верите его угрозам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:\Design\portfolio\suicide_present\borba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 rot="21325800">
            <a:off x="631080" y="565920"/>
            <a:ext cx="573732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говоры на высо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 сесть и не смотреть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говорите о вашем опасном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стополо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говорите об опасности вашей активности ил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 а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Не используйте приспособления для ловли самоубийц (батуты, развернутые простыни, чтобы поймать летящего вниз человека итд). Могут пострадать люди находящиеся вни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D:\Design\portfolio\suicide_present\borba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 rot="21325800">
            <a:off x="685080" y="2350440"/>
            <a:ext cx="57373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 если кто-то все же совершил самоубий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D:\Design\portfolio\suicide_present\borba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 rot="21325800">
            <a:off x="628200" y="923400"/>
            <a:ext cx="573732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то-то совершил самоубий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Не пускайте никого на место трагед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Сохраните нетронутыми отпечатки пальцев и другие свидетельства трагедии (оружие, запис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Запишите ваши наблюдения и наблюдения очевид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роверьте, не нуждается ли кто-то в медицинской или психологической помо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D:\Design\portfolio\suicide_present\borba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 rot="21325800">
            <a:off x="680760" y="2214720"/>
            <a:ext cx="5735520" cy="22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озаботиться о в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занимаетесь переговорами – общайтесь с группой поддержки. Вы должны заботиться и о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D:\Design\portfolio\suicide_present\borba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 rot="21325800">
            <a:off x="627840" y="917640"/>
            <a:ext cx="573732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цитаты, которые вам помогу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всегда стою прямо или уже поднимаюсь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н Максве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одь Иисус сказ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дите ко Мне все труждающиеся и обремененные, и Я успокою ва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ангелие от Матфея 11: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D:\Design\portfolio\suicide_present\borba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 rot="21325800">
            <a:off x="290160" y="277560"/>
            <a:ext cx="622944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зор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ать кому-нибудь о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 подойти, иметь наготове план от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аться к неуверенности потенциального самоубий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нуть время до прибытия профессиональной помо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наготове план помощи, спас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ь в настоящем времени, не пытаться лечить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ировать место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того, как все закончилось – обратитесь в боль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D:\Design\portfolio\suicide_present\borba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 rot="21325800">
            <a:off x="298440" y="923400"/>
            <a:ext cx="622944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экстренные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ворите с человеком в качестве профилак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дите возможную помощь профессион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 профессиональную 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сите о помощи профессион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жды проверьте, успели ли профессионалы вовремя помо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D:\Design\portfolio\suicide_present\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 rot="21325800">
            <a:off x="896400" y="1486080"/>
            <a:ext cx="5154840" cy="29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с потенциальным самоубийцей может состоя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его приглаш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пригла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езапланированное об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21325800">
            <a:off x="873000" y="1142640"/>
            <a:ext cx="505152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й самоубийца может находиться в состоя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покой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жде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 rot="21325800">
            <a:off x="845640" y="909360"/>
            <a:ext cx="505152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ужно сделать в самом начале переговоров с потенциальным самоубийц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убедить человека не совершать суицид прямо сей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обходимо сделать даже раньше, чем вы представитесь и войдёте в довер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овый</cp:lastModifiedBy>
  <dcterms:modified xsi:type="dcterms:W3CDTF">2009-07-14T06:53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